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E7610-2104-42CC-B9C9-B8676CEF0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EE5E1-EC52-47C6-B711-F530C62C9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0F72D-FF61-49C5-AD2B-7BD7E6D47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3C68A-9288-45C6-82EA-C97CCA905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8EB1D-6CDE-4BE5-8B92-7FB96BB67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43C62-6CF1-44A7-A7EF-F1600B3F4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96C58-FC79-47FD-B514-F3822CABF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B6B11-BA13-48B4-89F5-2A075E1D7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E710B-A9AA-4456-B7DE-BF58FBD6F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C76E6-B7D1-4872-AE1A-1A0A36FDC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396BE-8601-48A5-BCC3-555B4C674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08216-975B-4303-9628-754631B80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9212C-F9EB-409D-AEEF-60CC0ACDB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B767A-3F65-4173-A7E5-D704A5508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B0F86-6DB3-4413-980C-6AA1DECE3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1FACB-F788-412B-935F-9EA929C3C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3695A-AA12-48EB-A286-9F88A77F6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CFBE3-22A4-469A-B9E2-658B33965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B9BC8-906B-4156-A028-BEF8E65A7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C3E94-78DF-408C-99A3-5CD9DB003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97DF5-4173-4160-A204-3FCAF61D4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7E1C6-0EF1-4A73-9E86-FA198DA89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50BDE-83ED-4BC9-AEFE-91884F380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968F9-7895-4A25-8AE9-41A709A77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1" name="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B947B-6CDF-4305-BADF-7F29C961587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46" name="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04778-52E3-48C9-8069-0CC6ECDE374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Basic First Aid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18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Jeremy Futchko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do we know about first aid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’s for people who are hurt or injur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143160" y="2000160"/>
            <a:ext cx="28576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do we know about first aid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’s performed by lifeguards, EMTs, firefighters, etc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3048120" y="1828800"/>
            <a:ext cx="285732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do we know about first aid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can sometimes save lives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3143160" y="2000160"/>
            <a:ext cx="28576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do we wonder about first aid?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w does it save live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3143160" y="2000160"/>
            <a:ext cx="28576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do we wonder about first aid?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y is it mainly performed by a select few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3143160" y="2000160"/>
            <a:ext cx="28576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do we wonder about first aid?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w much training do you need to be skilled at it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3124080" y="1828800"/>
            <a:ext cx="28576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do we wonder about first aid?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y do first aid techniques change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3143160" y="2000160"/>
            <a:ext cx="28576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NSWERS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ese questions and many others will be answered through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search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orkshee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p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Quizzes/Tes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rochures to be handed out amongst peers and communit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6T18:47:45Z</dcterms:created>
  <dc:creator>Valued Gateway Client</dc:creator>
  <dc:description/>
  <dc:language>en-US</dc:language>
  <cp:lastModifiedBy>Valued Gateway Client</cp:lastModifiedBy>
  <dcterms:modified xsi:type="dcterms:W3CDTF">2009-03-16T19:33:49Z</dcterms:modified>
  <cp:revision>4</cp:revision>
  <dc:subject/>
  <dc:title>Basic First Aid</dc:title>
</cp:coreProperties>
</file>